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A3283-0DD9-491E-9077-B4FFAB6E7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A247C-4F06-43DC-8D79-A5682A678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DFA78-CC01-492C-B6F0-EB5E01C1B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DFA87-4CBB-4375-A396-9935A593D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EA82F5-E937-4006-95BC-900EF4CF7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9CD3BE-E1C7-41CF-AE07-74D65C1C1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A8A105-AF05-4305-92BB-357A8866B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796F2D-C3D9-4AB3-B9DA-D2420A4D0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D2BC39-297B-4C58-9B53-72C842992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13678C-7E10-409C-8676-4C62FACBF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FD7D3A-0FFC-4C9A-838A-A41C00251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CB45B-6834-47BA-BCAE-F604405F2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60132B-152E-4D51-8414-E58276F21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2D0EE8-7FCE-445F-A9E6-D475555DD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257737-46DB-4844-BAAD-340F4EDB0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FAE94F-C365-4C50-A811-C8BF86DC8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051A0F-B9D1-495D-B267-94BDD7AA9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CB661-BAAE-4CD6-A9C9-23DBF39E2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6B81B-C759-4BBD-AA09-F27807A89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A1D40-C949-4C90-B695-3B25D2A39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DDAEE-AD8C-467E-8A1F-714E978EB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CA44D-CE10-4264-8452-0E743B583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A6B46-18D1-459F-8575-3E6AC310B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0CD27-C896-4FC9-8C16-C55F1FD38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8576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6C882-EF26-446E-B9A6-55EA6AD0C15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3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5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7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9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4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6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07548-96C8-41C8-89EE-3A03B594566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Sir, We Would See Jesus”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arter 9, Lesson 1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 6:1-28; Luke 9:1-1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tt. 9:35 - 11:1; 14:1-1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ges 64-6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447B72-40FE-42A0-B849-8FA8DF5CF9F8}" type="slidenum">
              <a:t>1</a:t>
            </a:fld>
          </a:p>
        </p:txBody>
      </p:sp>
    </p:spTree>
  </p:cSld>
  <p:transition>
    <p:strips dir="l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3e3ff"/>
                </a:solidFill>
                <a:latin typeface="Arial"/>
              </a:rPr>
              <a:t>Jesus Rejected At Nazareth</a:t>
            </a:r>
            <a:br>
              <a:rPr sz="2400"/>
            </a:br>
            <a:r>
              <a:rPr b="0" lang="en-US" sz="2400" spc="-1" strike="noStrike">
                <a:solidFill>
                  <a:srgbClr val="e3e3ff"/>
                </a:solidFill>
                <a:latin typeface="Arial"/>
              </a:rPr>
              <a:t>Mk. 6:1-6; Matt. 13:54-58</a:t>
            </a:r>
            <a:endParaRPr b="0" lang="en-US" sz="2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7631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esus returned home - taught on the Sabb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ews questioned His wisdom and mighty work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fter all, His lineage was common - they knew his parents and relativ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esus said: “A prophet is not without honor except in his own country and in his own house.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esus left because of their unbelie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DF0F6-543A-4307-AC6F-98D900D41C54}" type="slidenum">
              <a:t>2</a:t>
            </a:fld>
          </a:p>
        </p:txBody>
      </p:sp>
    </p:spTree>
  </p:cSld>
  <p:transition>
    <p:strips dir="l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3e3ff"/>
                </a:solidFill>
                <a:latin typeface="Arial"/>
              </a:rPr>
              <a:t>The Compassion Of Jesus</a:t>
            </a:r>
            <a:br>
              <a:rPr sz="3200"/>
            </a:br>
            <a:r>
              <a:rPr b="0" lang="en-US" sz="2400" spc="-1" strike="noStrike">
                <a:solidFill>
                  <a:srgbClr val="e3e3ff"/>
                </a:solidFill>
                <a:latin typeface="Arial"/>
              </a:rPr>
              <a:t>Matt. 9:35-38</a:t>
            </a:r>
            <a:endParaRPr b="0" lang="en-US" sz="2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esus went to the villages and ci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 taught in the synagogu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 preached the gospel of the kingd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 healed the sic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29DF5-E945-416C-8D1F-C0D70C940204}" type="slidenum">
              <a:t>3</a:t>
            </a:fld>
          </a:p>
        </p:txBody>
      </p:sp>
    </p:spTree>
  </p:cSld>
  <p:transition>
    <p:strips dir="l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3e3ff"/>
                </a:solidFill>
                <a:latin typeface="Arial"/>
              </a:rPr>
              <a:t>The Compassion Of Jesus</a:t>
            </a:r>
            <a:br>
              <a:rPr sz="3600"/>
            </a:br>
            <a:r>
              <a:rPr b="0" lang="en-US" sz="2400" spc="-1" strike="noStrike">
                <a:solidFill>
                  <a:srgbClr val="e3e3ff"/>
                </a:solidFill>
                <a:latin typeface="Arial"/>
              </a:rPr>
              <a:t>Matt. 9:35-38</a:t>
            </a:r>
            <a:endParaRPr b="0" lang="en-US" sz="2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esus had compassion on the multitud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esus knew they were lost like sheep with no shephe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esus told the disciples - the harvest was plentiful, but few work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 were told to pray to the Lord of harvest to send forth labor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934E5-8B7D-4B34-AF98-1CC09B718A18}" type="slidenum">
              <a:t>4</a:t>
            </a:fld>
          </a:p>
        </p:txBody>
      </p:sp>
    </p:spTree>
  </p:cSld>
  <p:transition>
    <p:strips dir="l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3e3ff"/>
                </a:solidFill>
                <a:latin typeface="Arial"/>
              </a:rPr>
              <a:t>Sending Out The Twelve</a:t>
            </a:r>
            <a:br>
              <a:rPr sz="3600"/>
            </a:br>
            <a:r>
              <a:rPr b="0" lang="en-US" sz="2400" spc="-1" strike="noStrike">
                <a:solidFill>
                  <a:srgbClr val="e3e3ff"/>
                </a:solidFill>
                <a:latin typeface="Arial"/>
              </a:rPr>
              <a:t>Mk. 6:7-13; Luke 9:1-6; Matt. 10:1 - 11:1</a:t>
            </a:r>
            <a:endParaRPr b="0" lang="en-US" sz="2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esus sends the 12 apostles on limited commiss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ly to the Jews at this t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esus gave them power and authority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cast out dem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cure dise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preach the kingdom of Go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preach repent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15B61-B849-4CD6-8516-13436C342916}" type="slidenum">
              <a:t>5</a:t>
            </a:fld>
          </a:p>
        </p:txBody>
      </p:sp>
    </p:spTree>
  </p:cSld>
  <p:transition>
    <p:strips dir="ld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3e3ff"/>
                </a:solidFill>
                <a:latin typeface="Arial"/>
              </a:rPr>
              <a:t>Sending Out The Twelve</a:t>
            </a:r>
            <a:br>
              <a:rPr sz="3200"/>
            </a:br>
            <a:r>
              <a:rPr b="0" lang="en-US" sz="2400" spc="-1" strike="noStrike">
                <a:solidFill>
                  <a:srgbClr val="e3e3ff"/>
                </a:solidFill>
                <a:latin typeface="Arial"/>
              </a:rPr>
              <a:t>Mk. 6:7-13; Luke 9:1-6; Matt. 10:1 - 11:1</a:t>
            </a:r>
            <a:endParaRPr b="0" lang="en-US" sz="2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esus gave special instruc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ake nothing for the journey, except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staf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 ba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 brea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 mone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sandals you have 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clothing you have 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 not stay where you are not welcom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3E62A-7AC3-4877-B19C-0E041ED5C895}" type="slidenum">
              <a:t>6</a:t>
            </a:fld>
          </a:p>
        </p:txBody>
      </p:sp>
    </p:spTree>
  </p:cSld>
  <p:transition>
    <p:strips dir="ld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1" dur="2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6" dur="20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1" dur="20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6" dur="20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1" dur="2000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6" dur="2000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1" dur="2000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6" dur="2000"/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1" dur="2000"/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3e3ff"/>
                </a:solidFill>
                <a:latin typeface="Arial"/>
              </a:rPr>
              <a:t>Persecutions Are Coming</a:t>
            </a:r>
            <a:br>
              <a:rPr sz="3600"/>
            </a:br>
            <a:r>
              <a:rPr b="0" lang="en-US" sz="2400" spc="-1" strike="noStrike">
                <a:solidFill>
                  <a:srgbClr val="e3e3ff"/>
                </a:solidFill>
                <a:latin typeface="Arial"/>
              </a:rPr>
              <a:t>Matt. 9:16-42</a:t>
            </a:r>
            <a:endParaRPr b="0" lang="en-US" sz="2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3818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is words go beyond limited commiss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esus warned of trouble ahea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esus said the Spirit will guide them in what to sa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esus taught the importance of fearing G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esus brought divis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cost of disciple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9E1F3-F3F8-4F44-9FD8-41D02C998E0B}" type="slidenum">
              <a:t>7</a:t>
            </a:fld>
          </a:p>
        </p:txBody>
      </p:sp>
    </p:spTree>
  </p:cSld>
  <p:transition>
    <p:strips dir="l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3e3ff"/>
                </a:solidFill>
                <a:latin typeface="Arial"/>
              </a:rPr>
              <a:t>John The Baptist Beheaded</a:t>
            </a:r>
            <a:br>
              <a:rPr sz="3200"/>
            </a:br>
            <a:r>
              <a:rPr b="0" lang="en-US" sz="2400" spc="-1" strike="noStrike">
                <a:solidFill>
                  <a:srgbClr val="e3e3ff"/>
                </a:solidFill>
                <a:latin typeface="Arial"/>
              </a:rPr>
              <a:t>Mark 6:14-29; Matt. 14:1-12; Luke 9:7-9</a:t>
            </a:r>
            <a:endParaRPr b="0" lang="en-US" sz="2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rod had heard of Jesus and His work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rod thought John had risen from the dea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thers thought Elijah or another prophet had risen from the dea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rod sought to see Jes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3988C-108E-4901-B2B7-E64349545303}" type="slidenum">
              <a:t>8</a:t>
            </a:fld>
          </a:p>
        </p:txBody>
      </p:sp>
    </p:spTree>
  </p:cSld>
  <p:transition>
    <p:strips dir="l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3e3ff"/>
                </a:solidFill>
                <a:latin typeface="Arial"/>
              </a:rPr>
              <a:t>John The Baptist Beheaded</a:t>
            </a:r>
            <a:br>
              <a:rPr sz="3600"/>
            </a:br>
            <a:r>
              <a:rPr b="0" lang="en-US" sz="2400" spc="-1" strike="noStrike">
                <a:solidFill>
                  <a:srgbClr val="e3e3ff"/>
                </a:solidFill>
                <a:latin typeface="Arial"/>
              </a:rPr>
              <a:t>Mark 6:14-29; Matt. 14:1-12; Luke 9:7-9</a:t>
            </a:r>
            <a:endParaRPr b="0" lang="en-US" sz="2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rod Antipas married unlawful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ohn censored Herod for his adulterous marri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rod had put John in pris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rod made an oath that cost John his lif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rodias hated John and took advantage of an opportunity to have him behead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74CDE-89B6-4284-B88E-DCD1631A274E}" type="slidenum">
              <a:t>9</a:t>
            </a:fld>
          </a:p>
        </p:txBody>
      </p:sp>
    </p:spTree>
  </p:cSld>
  <p:transition>
    <p:strips dir="l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31T23:12:27Z</dcterms:created>
  <dc:creator>robert marshall</dc:creator>
  <dc:description/>
  <dc:language>en-US</dc:language>
  <cp:lastModifiedBy>Frank D Vines</cp:lastModifiedBy>
  <dcterms:modified xsi:type="dcterms:W3CDTF">2006-09-05T00:52:36Z</dcterms:modified>
  <cp:revision>10</cp:revision>
  <dc:subject/>
  <dc:title>Sir, We Would See Jes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508051195</vt:r8>
  </property>
  <property fmtid="{D5CDD505-2E9C-101B-9397-08002B2CF9AE}" pid="3" name="_AuthorEmail">
    <vt:lpwstr>robertdmarshall@bellsouth.net</vt:lpwstr>
  </property>
  <property fmtid="{D5CDD505-2E9C-101B-9397-08002B2CF9AE}" pid="4" name="_AuthorEmailDisplayName">
    <vt:lpwstr>Robert Marshall</vt:lpwstr>
  </property>
  <property fmtid="{D5CDD505-2E9C-101B-9397-08002B2CF9AE}" pid="5" name="_EmailSubject">
    <vt:lpwstr>Q9,Lesson17.ppt</vt:lpwstr>
  </property>
  <property fmtid="{D5CDD505-2E9C-101B-9397-08002B2CF9AE}" pid="6" name="_ReviewingToolsShownOnce">
    <vt:lpwstr/>
  </property>
</Properties>
</file>